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EBE76-CDE4-4FD1-B65B-47E17ACBE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BA73B-9E95-40DE-A4A6-E01484F66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8F55B-96B7-4830-BC00-C16425230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397EE-A49D-4118-B770-949FA469F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6FB98-70B6-446F-91FD-21715683F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9C1F2-DA22-425F-BE19-2D6C1B551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57A1E-6D65-4677-B3FC-A219A92C6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E9D4F-9604-4AE7-8A54-074DC7F16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2DEFD-1745-4288-BF36-6E0EEC14E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18C73-BEF9-4B2C-806D-9B9BF6B31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991AF-7B41-4679-8407-2875A9760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59FAC-EF46-4C7F-9DBF-37C915D0B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3F654-A1D3-4015-B2A1-423F9BFB7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84925-4256-4B63-9E7B-43FDE2E2B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2762E-5CE3-4CBA-B105-995E52359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BC5B6-FF05-44B9-8234-5F610E626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5362F-19C6-4652-987E-CA5CF0268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55790-4A6F-41A0-AF30-468DFD3B2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95EE3-A07B-46F2-8308-AC181DAF6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7DA12-87E6-4CAE-ACD6-BB19FC8DF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A0845-96A2-486D-B314-34DFA0F5D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6932B-0E2F-48F6-9EF9-5252494A0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A6757-D167-484C-9304-2CCD6A03C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F8CC4-5372-4202-A350-B939817DF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28B0A-6F71-4743-B249-DFC7DDC4BC6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50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1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4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EB747-079F-4BE7-851A-2B1DB88E5AC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925040" cy="26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99"/>
                </a:solidFill>
                <a:latin typeface="Tahoma"/>
              </a:rPr>
              <a:t>How To Run a Successful </a:t>
            </a:r>
            <a:br>
              <a:rPr sz="5400"/>
            </a:br>
            <a:r>
              <a:rPr b="0" lang="en-US" sz="5400" spc="-1" strike="noStrike">
                <a:solidFill>
                  <a:srgbClr val="333399"/>
                </a:solidFill>
                <a:latin typeface="Tahoma"/>
              </a:rPr>
              <a:t>Brainstorm Session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7238880" y="4981680"/>
            <a:ext cx="1752840" cy="17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scuss the Objectives of the Exercis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late big picture business goal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ke sure players realize why they have been invi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 up the specific goals for the progr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 Up a Relax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pen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to meet at a fresh location that may be less stressfu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refreshments and music upon ente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liminate negative or stressful persona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 a Positive and Focused To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ork to get the team in the mind set of your intended customer by providing customer examples or case stud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humor and positive examples to encourage ide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 the Guidelines for Succes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ke sure presented ideas are NOT challenged or “put down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te up front that those who consistently make negative comments will be eje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ppropriate Tools Availab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truly read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ve a white board or large tabl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ign a scrib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ve access to the internet and corporate intranet for quick re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 sure you eliminate all interruptions or confli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Moderator -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Key to Succes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st be someone the group will trust with ide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hould be confident with subject matter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hould pose questions to get group back on track only when need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features do you think our customers value the most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dea Collec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 up a relay system to deliver ide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ve the scribe write large enough so ideas can display and branch off of each o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reate Energy Arou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se New Idea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ve the team refine and then present the final ide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blicly post final ide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llow through on best ideas to create energy across the organ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0T19:23:04Z</dcterms:created>
  <dc:creator/>
  <dc:description/>
  <dc:language>en-US</dc:language>
  <cp:lastModifiedBy>DataViz, Inc.</cp:lastModifiedBy>
  <dcterms:modified xsi:type="dcterms:W3CDTF">2002-07-02T23:15:54Z</dcterms:modified>
  <cp:revision>44</cp:revision>
  <dc:subject/>
  <dc:title>Successful Brainstorming</dc:title>
</cp:coreProperties>
</file>